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7E20-397B-45F6-BCBE-88E5F42FC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829D-4662-41A5-AA13-3BB56C725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9AF5-F5CF-4D1D-903A-B6F6F82C6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6CB3-DA30-4EA4-8A1E-0B80167EC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93DB-7124-45F9-9DD3-1C09EDE92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915E-47C6-481B-BC70-6ECE2CA88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DF26-6682-40A1-9827-7E6F588CD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1BC1-38E6-42BD-8260-E3B14D3B0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9C53-D507-4BBE-A251-678EACDB2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2D35-0988-471B-B7B6-643E3A35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5FD9-DAD2-41CC-8FB4-34852265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B5D2-B3C3-4566-A747-1BDD0912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E7A45-0801-44CF-B8E1-A4B58382B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50:24Z</dcterms:modified>
  <cp:revision>5</cp:revision>
  <dc:subject/>
  <dc:title>Slide 1</dc:title>
</cp:coreProperties>
</file>